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EDE-2A77-4F7A-9BA0-33799C85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FD1-9925-4449-B537-190AFCA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B7BB9-2BCA-4C51-BFD0-94C8807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3B3AE-3D94-45DC-A2EF-ED2BA017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33480-D36E-47A2-AB06-7B44E31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BC91-CB64-46B0-893A-7EB6A6E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FF52-B735-4313-BAB9-231D570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7E57E-A323-4A8E-B076-AC125BB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36378-9A1B-454F-B307-98570242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3CCC-80CA-446B-8AA1-4A46DD9B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2CF55-4E01-4B6B-BC2D-9FFE5213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49715-0305-4AF3-ADA5-1A77DCFF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F8F-37A5-4BB3-A059-8AE1F7C2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052DC-E916-4CFF-84E0-1E8D0C8F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601F5-CD2D-4D35-9E3D-7AF083E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8F87B-7AB4-4BE6-843C-8FF6B2D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DB5A0-B42A-4D64-A844-B563E50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21616-E6EE-4695-BF10-074A5580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FB75D-A51F-4947-A93F-0D705C8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73A4D-9CF4-413C-BA91-3419684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70042-B358-4C4B-B284-2B6E8722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94514-8766-42CD-92FC-1BD8DB85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82D2E-F84C-4D9D-97D3-D618143C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2B8-3381-45E9-9499-47CDD932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489AB-0DE6-49BF-BA2F-1911B359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9B051-A681-4D05-8490-766410C0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384AE-AB39-4498-A906-544BB7F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CC189-D5BC-49A0-90D1-7492F5A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976C1-8868-48C0-90BF-40DA629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4B9A-6354-4947-A276-1B39C7E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6B4AB-F40F-4E02-A226-580F558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2CC67-91DE-483E-BAC7-BECCAC5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9E4B-7A9F-46FD-A19A-E857A22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23EB-A060-436A-A7C2-A26828F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3EDF-6416-459F-B114-39502537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C8415-9CD4-4014-BA4F-5F46EEB2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B73D7-8BFD-4686-9623-F5DED2FD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A4646-EFC3-43EA-A33F-6766AE5B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16C9B-8D9D-49E1-84CD-3A6D8261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6A60F-E209-4789-9E19-92071E0F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9498B-53AF-41A0-9A40-C3624EEB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B35DC-4B1D-49D8-BD8B-3D904C4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ED1FB-EF1C-4FC6-A871-96538B5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3286C-1E3D-4F90-B84D-A07BE503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46655-C10D-416B-BEAB-5CF3818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8978-50EA-4C5F-B864-CD1B600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583D1-8BFC-47A8-934C-020ED8B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96C50-786C-4507-AB70-1C55ABD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47349-6857-4FF0-8D18-B2BDA30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3092E-201C-4A6F-8A52-7B62228D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D2A21-D51E-4CCE-86B0-22A989DE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B8EAB-31E8-4789-BD9E-1576271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078CE-A82D-4BFC-8D2F-02620B6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60B67-9419-495A-B5C6-3834C72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AC726-DDA7-4231-9866-608B4870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C9BD6-0E02-486B-8896-0E5D1A4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B97-6D27-4EF2-B09E-FFC9BC4D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C0F6B-E493-4F76-9024-526B73CA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0ACAF-D4BB-4264-8681-D7D2156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1487B-2FDB-4C00-B9DC-634CEA7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24B4D-DBA3-4E0F-A9C9-8815C9E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4519C-5DDC-4016-BA37-DE19BAC2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50DF2-4CBA-4E7C-A82D-A9F4D1A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D1827-E0CC-4FCC-8DAB-19241933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BC1C0-FB4E-4920-819A-F169FD7A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B84E3-7D52-4733-A463-947654B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6CFB4-6939-41D3-B763-0435844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D1B2-CEFF-4BCA-9E03-B344B29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0AACE-23B2-4B50-AE9C-24333F1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B5371-D504-4E67-8B3F-EF0CA2F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BD17D-B502-499A-A11C-54B9752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2C0C7-F73F-4001-99E7-9F8E7CD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233F6-26E2-489B-A2E6-624CE57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DBD5B-34BE-4B99-826C-032CB7B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9EFE6-B792-407B-A1CF-DBF9D51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7F9EE-8F1D-4326-B30D-F5B4F539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DEB89-05D1-40F4-B82F-87AE22F6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7E7CD-614C-4F06-9953-6DABDDEA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2FBC-AD4B-48E1-B4B2-5A8B71A9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2DD9E-E690-4576-B76A-5157C2C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E1EA9-A1C9-45A8-A28D-1527599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4B0AC-B312-4CB0-BDE6-BD779AB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236B2-A5E0-47D6-BC5C-BFC0566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62145-0ADA-42FE-B3A4-815D55B1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6F1FE-A105-4025-B0B6-6AC1968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791FE-9682-49F4-99CB-D688277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4E317-9D6B-48CA-99FA-82258E7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3CE57-551D-4FCC-A01A-11D28AF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01809-87A8-4E1D-911A-C00BD543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6BB-1494-4CF8-8FB1-4AC4A69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C45DB-C3CC-4958-A8D0-78BE9EF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5B631-BF6A-4B11-B065-0D2CC6FE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4D00E-933D-4948-B4B6-0E1401E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C9CCC-2933-4394-ACEB-3DBE4B8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335A2-12C1-42AF-9DCF-EBFEB85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B951F-A17E-45C4-8ED6-730683F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14F40-113E-4722-B83C-3D8AABED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DD408-4C39-4682-B049-FB50DAA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DF0FC-1D21-4937-A8EC-6F02BB1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9F8CF-4FAD-442D-BC0C-F77E0382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C83B-24DD-4EB4-B499-5B8F8DCE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8E668-B71B-4E61-B7E2-7858311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DEF62-CCFC-4C23-B187-EC52DBFE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69F5B-6B98-41D7-9EC3-695130AD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EB298-8421-423F-B1C0-9D348D0E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114DB-FB6C-488D-B3E6-100FDF87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3413D-F450-419B-AE4B-347FF10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44AB5-9E38-4A49-9B20-9130A5C9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DA24F-3936-401B-8116-5EBCBB2A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DC555-2F4C-4B9F-87C0-BE0FEFF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17793-D0AD-4E10-A382-8A5619E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249-7F4B-42B9-86A4-97611DC5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243-34E7-4A2F-B4AF-F47866A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F013F-242F-4B1B-AD82-7AE7CD8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96A04-72BE-4B48-A043-AA9ADD3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A9B35-F657-48E5-B00F-14D5E4FD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6C334-8C32-4142-8A77-DC19A864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9783A-5D16-4D89-A960-B0ACED9F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02671-4EFF-477B-A7FD-11EE7B7F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91051-EEDD-48ED-9986-F12E2C5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C4C2F-7AE5-4E33-850C-B7A8F55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C6EF21-501F-4E88-952F-6DCE11A0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4C748-1A0E-4E72-9A20-215E55C6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A57-C84A-49E0-A6E4-CE55F46F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74AE2-1FA4-4897-B562-869C709A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0EAB7-916B-42D5-A370-58E73AB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CA966-67BA-4897-9071-88ED8FB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EFF7F-B540-4571-B119-63D3EDF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5CD70-9840-48BA-A6FF-FBFE338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46797-FC71-4BB5-AF48-03D0DCA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108DA-6CD1-4649-9A44-D99D8089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50190-3584-4672-83DB-2447A9A8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BBE0C-4465-46D7-9F46-B71696E0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13D27-C010-41ED-B472-F4D2B028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0861-E487-47CD-92B9-D8A0635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D843A-7B8E-48E5-9844-05BB175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27283-F19A-4FBA-AE50-5D812A38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92368-5F8D-4CEB-B1A9-9ADB358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58182-0914-4999-82BE-6070C19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DABEA-9A14-442E-90CC-DE86B3E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6CC7C-B28C-4084-AC8A-EDC1D9BB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95AD2-4FBD-4A8A-B64F-99810943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97A42-B4A9-4773-BFFD-BC22D88A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F808E-B907-40FA-AF4A-0666AC80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1123F-8202-4DA2-9C69-9073017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24BC-90BB-41B1-B095-309E56EF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5B95F-163D-4FA5-90C5-D9EB39D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03309-564C-4207-9014-E433035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B7AD5-F6A7-4E29-962A-30174821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1E348-400F-475A-AFC9-BAFD525C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D694A-C17A-45C2-B51E-829CB51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26306-9C06-4F45-9D41-B2A92922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5962A-8D02-4B88-BE7E-72DEDF2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A386A-0343-497C-B8D4-59D4F4C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3BBC7-4380-448D-80A2-6C27607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115C6-B288-47C7-BA33-6CBCD2AE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CE9-E69C-406B-8B47-FD0EB145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185E1-117D-444D-95C2-6C4802F0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E0E4D-8176-4A1B-99CD-263D1FFF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A5B40-31CA-4A35-A7F9-785B8F8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920D4-0C82-45AE-855D-541B511F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288BE-1836-4BBB-91D4-190A3D8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94A94-E440-42DA-BA00-49166BD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36A5C-459E-44DC-9F58-E927708C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AF2B3-0B65-487E-B352-567556B2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243DA-2562-4649-B3D4-45802C5C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916F0-0863-406F-AF26-9AB27FD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2111-8C37-4CCF-81AF-97954F3C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AC29B-2713-4A08-88E7-19244CE8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145CF2-BA9C-4B95-AF2D-87240A4A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2050F-2FE6-4E1A-8B8B-322245E8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DF98-783E-41CA-972E-A3DB6FE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3439-F536-4F06-B87F-AB293D7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131D-4E59-40BF-B048-7DA4C528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ED9C-BFC3-4EF9-80C9-6922FF5B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673-B64B-468A-A40B-25D0D56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2757-49F6-4BCC-B30E-86A4314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9B75-65D4-49C6-BDBB-8D8BAF7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1859-150D-4EA4-9279-B12E9CF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D6E62-E05E-4088-86BB-E427130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AF2D-C024-4225-80B8-195F3E9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8F53-D4E1-4886-BB22-8EA01623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830D-2251-49BD-B42E-78C433F2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08E0-0A4F-4391-AC6C-8E2047E5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0C57-07CC-4452-98ED-EF7FA1B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9B9E-973E-4DDA-A7BE-D5F424CD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DAB-E766-49E1-9294-C2032097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3EC9-4CE8-4730-95BB-D81F354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6F1D-6554-4CA4-AA4D-C13677B0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E024-566B-4C2E-A7E7-D149C5A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B13-205D-4863-9ECC-2827E8C0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CED0-CD1C-499F-B08D-3672115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1798-3BCF-4DE2-A1CF-9E8FFF0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6D3A-E819-440C-9EF2-38670D8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323E-727E-43F8-9691-D870DCAB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CB19-E458-4C5F-B677-3BFEDF03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5B2C-E08A-4373-9A97-7932742F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916-3F77-4AE5-97D4-E2F579FB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6CDB-79F7-4651-BDC4-A953E39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A555-4294-41DF-9159-201CE105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A0B7-80E1-471B-B316-3C4970A4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7DD1-C623-4B1E-89B3-4607495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74976-1550-4867-94B8-0FCEF01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57D4-0790-4312-AA94-6CE25567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042D-FF52-4886-B6F6-E4B5C0F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E1A9-89D1-44EF-B8A2-D139AD5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09D91-3D63-4A82-A9BC-064E3C7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FE76-2D36-4C08-BB9E-432AE47D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956-FFD2-4FF4-8409-4D4ECFCF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D01C-A368-4E00-A4DD-808156B6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31C9-7B80-4922-983A-C975FEB4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A414E-E8E0-4854-9BE3-6BC6A155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504E-C5D9-47A4-A6C2-C7C637D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778B7-FA25-4661-A941-71912A0F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31D7-4EFF-46D0-9BC0-EE1878EF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BD5D-8B46-41EF-B154-CA5C8DE0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44FE-D2C1-4FF8-B535-B408558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D9D0-FD03-4D91-93F4-1AF589E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8578-3A0C-49AB-8CE4-566F1443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8DF-1A2D-4448-AB19-DDB9D94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C237-2D98-49BA-80F9-2B6AEC3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D4009-409D-4E8B-9F9C-8E6D621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CEAA-FC5C-4920-96A6-469ED74C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CA2C-953B-4815-808B-C80E355D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AD35-32BD-45A9-BDFF-2EEF101F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7149-0FB5-4D23-98B4-DE25BA84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7093F-EA5C-499A-8858-615F2956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67EA-5C3C-4132-9167-9071B45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173CE-BE4A-4490-BDFB-E3AAC7A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5577-CD51-4393-AA9E-65D8B749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F9F-1003-46F9-B5CE-68917DD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9DEA-7110-4BBC-B8E9-FF7C7C9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53D65-EDCF-4A53-897C-87C82F2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1D4C8-5E3E-431A-A0E1-7D8411C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E520-7E7C-464A-847E-3952D55E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7E0B-F99B-4D2F-98B5-2496FEC0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801A2-09D8-4D58-9EB0-D72E25A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F0D7-2646-49CB-B6CC-00EB63D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7C7F-C08E-4D0C-AF21-C5D6F4A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AC0F-8757-4025-AD32-DB61F97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8F760-07F6-45C0-A718-B608812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7C2-2B0C-4392-9CB7-86321DF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27BC-9334-4E1F-808D-02CF67C2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F9B5-C7AD-430C-A3B8-05675DA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1922-3DCC-4E0C-8E6C-9F604D4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21949-9385-4657-A80C-869A4244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DC30D-E093-4D94-8414-51BE913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B2EF-A9C1-4BF0-ABCA-C1A9635B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36DC-4EA3-41C2-BA0B-FFD2CF9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87AA8-0F0A-48AF-B939-758D2C55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E4B70-98A3-4CFB-B99E-E7D6645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24C31-FC9B-4901-AF70-80A3449F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CBFF-41D0-4DA2-B602-22BB9E23AC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81B-80A4-48EB-B042-CBA7F7624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0D45-B952-4F0A-B389-98575E687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963-3005-4FBE-BE5A-60876981D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166-2F3B-4472-80D2-FAD0D5176B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1A9-D455-4780-99BA-9CD864350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2F5-12D7-4C85-9DBE-1CC94373A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7E5-D284-49FC-8783-E7A09EF9B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9D3-F7DF-4A6C-B57E-3FB8874F4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814-4B79-4722-A5E1-321A90789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FF2-1581-4382-9A27-8C9BDC168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CD4D-4A2F-4351-872E-CA53AA0FD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07A-9AC6-4DA1-A9DC-D282D8E6FC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EF7-7548-4275-9854-A270AF61C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9E0-AC4C-433B-8C92-16223AEC3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D68-0450-4FF9-81A3-EF8064516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500-33B8-477A-A38C-F0E8E8DB1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A678-ADFA-4817-966C-ECF153C1E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519-6EC3-4C1D-903D-F78DC54CC5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9C1C-9E43-4007-8D1E-56A0F6DC0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4A76-4763-42B8-8A99-10147B069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4C48-4449-4198-A495-9EF3FF097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4CD-57CB-45D8-BA4A-6B798AFFC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6CD2-919E-43B5-8399-324A66300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16F-5E49-48C6-9733-28A1DFBFE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257-815A-44CC-8378-B7133E0A7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494-B23B-4230-B27B-1BB630BD3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C62-0E81-4340-A3FB-A8E9D4DF22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CE8-EAF4-4138-8486-86CD49554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EB25-2676-43AC-BC57-2C4883939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AE6-6010-46CC-AAD7-524968209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14E0-578F-486D-8775-E82C084FB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02D-E62B-4ABB-B128-31D539ADC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B0E-7262-466C-A253-A71B6376D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BD85-5856-4E2D-ABCF-B087EB4C6C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68B-CA4E-4AC1-9399-4273A5FCB4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6B6E-823F-414D-9BC1-A5ABDE998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FEF-F670-4B0C-8208-6A7D1B5A4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8BF-2E66-49E5-B557-0ABF10ED3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375-BFE8-48DF-99DB-80CDCDCE5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2240" y="2909880"/>
            <a:ext cx="4619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69633" descr=""/>
          <p:cNvPicPr/>
          <p:nvPr/>
        </p:nvPicPr>
        <p:blipFill>
          <a:blip r:embed="rId1"/>
          <a:stretch/>
        </p:blipFill>
        <p:spPr>
          <a:xfrm>
            <a:off x="295200" y="185760"/>
            <a:ext cx="8553600" cy="6486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529080" cy="86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187280" y="5056200"/>
            <a:ext cx="2592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5603760"/>
            <a:ext cx="80661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84360" y="6165720"/>
            <a:ext cx="806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8609" descr=""/>
          <p:cNvPicPr/>
          <p:nvPr/>
        </p:nvPicPr>
        <p:blipFill>
          <a:blip r:embed="rId1"/>
          <a:stretch/>
        </p:blipFill>
        <p:spPr>
          <a:xfrm>
            <a:off x="995400" y="1341360"/>
            <a:ext cx="7153200" cy="22100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68610" descr=""/>
          <p:cNvPicPr/>
          <p:nvPr/>
        </p:nvPicPr>
        <p:blipFill>
          <a:blip r:embed="rId2"/>
          <a:stretch/>
        </p:blipFill>
        <p:spPr>
          <a:xfrm>
            <a:off x="523800" y="3716280"/>
            <a:ext cx="8096400" cy="2305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7596360" y="1600200"/>
            <a:ext cx="576000" cy="820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427640" y="252108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7380360" y="257976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1835280" y="4033800"/>
            <a:ext cx="936360" cy="719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364000" y="401940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8164440" y="403380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1979640" y="489744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4629240" y="4897440"/>
            <a:ext cx="93636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7999560" y="4869000"/>
            <a:ext cx="9363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779400"/>
            <a:ext cx="8562960" cy="5962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40720" y="4941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1200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595440" y="2128680"/>
            <a:ext cx="7953120" cy="2600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7380360" y="2924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7451640" y="41054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33360" y="914400"/>
            <a:ext cx="8477280" cy="5467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258920" y="515772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042920" y="577692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628560" y="1805040"/>
            <a:ext cx="7886880" cy="3247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56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561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6324" descr=""/>
          <p:cNvPicPr/>
          <p:nvPr/>
        </p:nvPicPr>
        <p:blipFill>
          <a:blip r:embed="rId1"/>
          <a:stretch/>
        </p:blipFill>
        <p:spPr>
          <a:xfrm>
            <a:off x="681120" y="2076480"/>
            <a:ext cx="7781760" cy="2705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71640" y="3414600"/>
            <a:ext cx="56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00000" y="4033800"/>
            <a:ext cx="56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5300" descr=""/>
          <p:cNvPicPr/>
          <p:nvPr/>
        </p:nvPicPr>
        <p:blipFill>
          <a:blip r:embed="rId1"/>
          <a:stretch/>
        </p:blipFill>
        <p:spPr>
          <a:xfrm>
            <a:off x="309600" y="569880"/>
            <a:ext cx="8524800" cy="6172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6323040"/>
            <a:ext cx="439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4276" descr=""/>
          <p:cNvPicPr/>
          <p:nvPr/>
        </p:nvPicPr>
        <p:blipFill>
          <a:blip r:embed="rId1"/>
          <a:stretch/>
        </p:blipFill>
        <p:spPr>
          <a:xfrm>
            <a:off x="647640" y="1338120"/>
            <a:ext cx="7848720" cy="4181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042920" y="2521080"/>
            <a:ext cx="26654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067280" y="2565360"/>
            <a:ext cx="266544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4956120"/>
            <a:ext cx="48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2231" descr=""/>
          <p:cNvPicPr/>
          <p:nvPr/>
        </p:nvPicPr>
        <p:blipFill>
          <a:blip r:embed="rId1"/>
          <a:stretch/>
        </p:blipFill>
        <p:spPr>
          <a:xfrm>
            <a:off x="276120" y="1819440"/>
            <a:ext cx="8591760" cy="3219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85128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219640" y="3429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3:2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